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C6D-BD0E-49D8-91AF-3EF55C30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9F5-4B8F-41DB-A16D-E7CB6E9F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CB6-9332-43EC-97D2-F851130D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EA0D-E5C0-4AE5-B335-B03A2517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63FC-7AF3-4E48-98A2-AF293446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663-4F22-4536-95CF-ED71AB1A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142-4391-4D34-9773-03424448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7E73-1947-42B7-8D88-AAC1B98A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BF0-E970-4D42-9EAB-3FEFB040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07C-A043-4C95-9481-1986C0C6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CA16-777D-4621-BDA5-AC300BF1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EAB-9E32-4C45-9DB8-8BA0166F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7BE9-EDA4-416E-9927-09EF30CBE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1295280"/>
            <a:ext cx="59436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spécialité gastro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mique dans laqu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peut mettre d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uits pour le desse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752480"/>
            <a:ext cx="66294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le héritage 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ès forte ici?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1752480"/>
            <a:ext cx="55627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haussur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bois typiqu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295280" y="2057400"/>
            <a:ext cx="64771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 sont les coiff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iqu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rtiste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habit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ci pour 40 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fem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ûl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752480" y="1828800"/>
            <a:ext cx="632484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fromag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lus importa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ic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219320" y="914400"/>
            <a:ext cx="6629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etit îlo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une monast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les omelettes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ère Poular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2 capit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066680" y="259092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etag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stu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ditionne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festiv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lus grand du mon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….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les touris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 vont en hiv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143000" y="990720"/>
            <a:ext cx="69343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spécialité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stronomiqu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523880" y="1676520"/>
            <a:ext cx="60962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762120" y="1066680"/>
            <a:ext cx="76960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beaujolais nouveau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rive en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066680" y="762120"/>
            <a:ext cx="670572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spécialité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rég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let et v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600200" y="1828800"/>
            <a:ext cx="57150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type de boeu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lanc qu’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ultive ic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371600" y="1828800"/>
            <a:ext cx="60958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thédr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 Atun ave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restes d’un sai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rt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828800" y="2743200"/>
            <a:ext cx="5410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752480" y="1828800"/>
            <a:ext cx="59436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mand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447920" y="1447920"/>
            <a:ext cx="670536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lle fortifi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les Catha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bitai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523880" y="1219320"/>
            <a:ext cx="67057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quédu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stru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 les Roma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1066680" y="1143000"/>
            <a:ext cx="72392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lle où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peut vo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arènes roma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en préservé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990720" y="1143000"/>
            <a:ext cx="73911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des produi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rta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ortés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tte rég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676520" y="1523880"/>
            <a:ext cx="5715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219320" y="1219320"/>
            <a:ext cx="72388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i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nt la fronti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 su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cette rég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143000" y="1219320"/>
            <a:ext cx="71629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lage élégan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 l’océ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lant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1066680" y="1143000"/>
            <a:ext cx="73915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fem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istor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cette rég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066680" y="1066680"/>
            <a:ext cx="72392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parc d’attra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on peut voir ce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 arriver un j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295280" y="2590920"/>
            <a:ext cx="67057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sace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rra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93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r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gastronom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vil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histo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géograph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752480" y="1828800"/>
            <a:ext cx="63248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ann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rt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astronom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il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istoi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éograph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ann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676520" y="4114800"/>
            <a:ext cx="5715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quelle rég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6" name="Picture 3" descr="C:\My documents D\Allez, Viens3\AV3Chap1\locationopener\regions-france.jpg"/>
          <p:cNvPicPr/>
          <p:nvPr/>
        </p:nvPicPr>
        <p:blipFill>
          <a:blip r:embed="rId1"/>
          <a:stretch/>
        </p:blipFill>
        <p:spPr>
          <a:xfrm>
            <a:off x="2971800" y="1371600"/>
            <a:ext cx="2857680" cy="2629080"/>
          </a:xfrm>
          <a:prstGeom prst="rect">
            <a:avLst/>
          </a:prstGeom>
          <a:ln w="0">
            <a:noFill/>
          </a:ln>
        </p:spPr>
      </p:pic>
      <p:sp>
        <p:nvSpPr>
          <p:cNvPr id="167" name="Left Arrow 6"/>
          <p:cNvSpPr/>
          <p:nvPr/>
        </p:nvSpPr>
        <p:spPr>
          <a:xfrm>
            <a:off x="5410080" y="3124080"/>
            <a:ext cx="1676520" cy="38124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905120" y="4648320"/>
            <a:ext cx="5715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quelle rég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9" name="Picture 3" descr="C:\My documents D\Allez, Viens3\AV3Chap1\locationopener\regions-france.jpg"/>
          <p:cNvPicPr/>
          <p:nvPr/>
        </p:nvPicPr>
        <p:blipFill>
          <a:blip r:embed="rId1"/>
          <a:stretch/>
        </p:blipFill>
        <p:spPr>
          <a:xfrm>
            <a:off x="2971800" y="1371600"/>
            <a:ext cx="2857680" cy="2629080"/>
          </a:xfrm>
          <a:prstGeom prst="rect">
            <a:avLst/>
          </a:prstGeom>
          <a:ln w="0">
            <a:noFill/>
          </a:ln>
        </p:spPr>
      </p:pic>
      <p:sp>
        <p:nvSpPr>
          <p:cNvPr id="170" name="Left Arrow 5"/>
          <p:cNvSpPr/>
          <p:nvPr/>
        </p:nvSpPr>
        <p:spPr>
          <a:xfrm>
            <a:off x="5486400" y="2057400"/>
            <a:ext cx="1600200" cy="2286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523880" y="1828800"/>
            <a:ext cx="60199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ourgog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2057400" y="4800600"/>
            <a:ext cx="5638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quelle rég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4" name="Picture 3" descr="C:\My documents D\Allez, Viens3\AV3Chap1\locationopener\regions-france.jpg"/>
          <p:cNvPicPr/>
          <p:nvPr/>
        </p:nvPicPr>
        <p:blipFill>
          <a:blip r:embed="rId1"/>
          <a:stretch/>
        </p:blipFill>
        <p:spPr>
          <a:xfrm>
            <a:off x="3124080" y="1752480"/>
            <a:ext cx="2857680" cy="2629080"/>
          </a:xfrm>
          <a:prstGeom prst="rect">
            <a:avLst/>
          </a:prstGeom>
          <a:ln w="0">
            <a:noFill/>
          </a:ln>
        </p:spPr>
      </p:pic>
      <p:sp>
        <p:nvSpPr>
          <p:cNvPr id="175" name="Right Arrow 5"/>
          <p:cNvSpPr/>
          <p:nvPr/>
        </p:nvSpPr>
        <p:spPr>
          <a:xfrm>
            <a:off x="990720" y="1981080"/>
            <a:ext cx="3124080" cy="30492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752480" y="510552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quelle rég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7" name="Picture 3" descr="C:\My documents D\Allez, Viens3\AV3Chap1\locationopener\regions-france.jpg"/>
          <p:cNvPicPr/>
          <p:nvPr/>
        </p:nvPicPr>
        <p:blipFill>
          <a:blip r:embed="rId1"/>
          <a:stretch/>
        </p:blipFill>
        <p:spPr>
          <a:xfrm>
            <a:off x="3124080" y="1828800"/>
            <a:ext cx="2857680" cy="2629080"/>
          </a:xfrm>
          <a:prstGeom prst="rect">
            <a:avLst/>
          </a:prstGeom>
          <a:ln w="0">
            <a:noFill/>
          </a:ln>
        </p:spPr>
      </p:pic>
      <p:sp>
        <p:nvSpPr>
          <p:cNvPr id="178" name="Right Arrow 5"/>
          <p:cNvSpPr/>
          <p:nvPr/>
        </p:nvSpPr>
        <p:spPr>
          <a:xfrm>
            <a:off x="990720" y="2514600"/>
            <a:ext cx="2361960" cy="3049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523880" y="5029200"/>
            <a:ext cx="670572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quelle rég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0" name="Picture 3" descr="C:\My documents D\Allez, Viens3\AV3Chap1\locationopener\regions-france.jpg"/>
          <p:cNvPicPr/>
          <p:nvPr/>
        </p:nvPicPr>
        <p:blipFill>
          <a:blip r:embed="rId1"/>
          <a:stretch/>
        </p:blipFill>
        <p:spPr>
          <a:xfrm>
            <a:off x="3276720" y="1981080"/>
            <a:ext cx="2857320" cy="2629080"/>
          </a:xfrm>
          <a:prstGeom prst="rect">
            <a:avLst/>
          </a:prstGeom>
          <a:ln w="0">
            <a:noFill/>
          </a:ln>
        </p:spPr>
      </p:pic>
      <p:sp>
        <p:nvSpPr>
          <p:cNvPr id="181" name="Right Arrow 5"/>
          <p:cNvSpPr/>
          <p:nvPr/>
        </p:nvSpPr>
        <p:spPr>
          <a:xfrm>
            <a:off x="1676520" y="4038480"/>
            <a:ext cx="3047760" cy="2286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990720" y="1143000"/>
            <a:ext cx="71625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man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rêp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tout o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914400" y="1066680"/>
            <a:ext cx="74674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man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bouillabai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tout o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égion de cid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calvado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2 rég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le v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péri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990720" y="1143000"/>
            <a:ext cx="73911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man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foie gr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tout o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143000" y="1066680"/>
            <a:ext cx="69343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lle prè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Allemagne: il y a u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hédrale avec une t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90720" y="2590920"/>
            <a:ext cx="6858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nguedoc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uisill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1371600" y="1600200"/>
            <a:ext cx="60958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pital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v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066680" y="1371600"/>
            <a:ext cx="68580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pita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Rhône-Alp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143000" y="1295280"/>
            <a:ext cx="670572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lle la plus gran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Côte d’Az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990720" y="1219320"/>
            <a:ext cx="708660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lle riche à cause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industrie de so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838080" y="838080"/>
            <a:ext cx="70106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lages ici o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u des batail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lus importa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20ème sièc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066680" y="990720"/>
            <a:ext cx="71629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Romains o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aucoup constru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ces 2 rég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1066680" y="1143000"/>
            <a:ext cx="71629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nnibal e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s éléphant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le rég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1066680" y="1066680"/>
            <a:ext cx="723924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idé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impressionis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débuté ici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990720" y="114300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uillaume le Conquér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Était le duc ici av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devenir roi d’Angleter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914400" y="1143000"/>
            <a:ext cx="71629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ontag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lus hau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Euro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’appelle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2819520"/>
            <a:ext cx="5257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quita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762120" y="106668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montagn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divise la Fr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’Espag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990720" y="1066680"/>
            <a:ext cx="73152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éographiqu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l’Aquita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Bretagne o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commu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990720" y="990720"/>
            <a:ext cx="731520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gran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vières (fleuves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Fr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1066680" y="990720"/>
            <a:ext cx="701064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au qui divi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Normandi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’Angleter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1066680" y="1371600"/>
            <a:ext cx="7162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la fond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une spécialit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2"/>
          <p:cNvSpPr txBox="1"/>
          <p:nvPr/>
        </p:nvSpPr>
        <p:spPr>
          <a:xfrm>
            <a:off x="838080" y="1143000"/>
            <a:ext cx="75438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ingrédi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ncip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cassoul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838080" y="10666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anima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rouve d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marg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990720" y="1066680"/>
            <a:ext cx="74674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des artis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 ador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lumiè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Prov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2"/>
          <p:cNvSpPr txBox="1"/>
          <p:nvPr/>
        </p:nvSpPr>
        <p:spPr>
          <a:xfrm>
            <a:off x="1143000" y="1219320"/>
            <a:ext cx="69343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lade niçoi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un sandwi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8" name="WordArt 3"/>
          <p:cNvSpPr txBox="1"/>
          <p:nvPr/>
        </p:nvSpPr>
        <p:spPr>
          <a:xfrm>
            <a:off x="1295280" y="3962520"/>
            <a:ext cx="6477120" cy="21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e passé composé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retagn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rmand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lsac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ourgogn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anguedoc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77240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quitain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n français: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 came, I saw,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 laughed!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 suis venu(e),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’ai vu,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’ai ri!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312408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1-10-15T18:06:42Z</dcterms:modified>
  <cp:revision>62</cp:revision>
  <dc:subject/>
  <dc:title>No Slide Title</dc:title>
</cp:coreProperties>
</file>